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B3C535-4F27-479B-9D57-86360C752F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400A0B-805E-4A6B-89B2-BB8670CF62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8D6400-2377-4C53-9413-57DBADE77E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689255-09B2-4357-8A74-038C3862E7B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57E9B4-AFE1-4C6C-A355-82585A7DF7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2A8A5E-1FC9-49C1-A40D-573A8A559E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7C790F-BF60-4806-9996-7DCE0D5208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99DCD8-37F7-45ED-8E34-254BB11022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90315E-4CF0-4FA3-99B6-7B10BC876E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49D6B5-8EF2-4A18-AC9B-57C8860F2F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5B582-7EE6-4069-964F-6B7E50B3FD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7B41D-4C4F-4257-BB46-FA8607F59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9768D-AD9A-496D-BC3A-330AA70A0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7CE2F3-8E82-405C-A3F5-84688B1CB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5A190-A727-4D86-BA31-ABF9442042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E1DA0-319B-4C26-9A26-5918A0806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09790-BAC4-442F-A0EA-F6CBE80CF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6BE97-E078-4AD9-B73F-E4AFEDC69F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36718-D4BC-4DCF-89D9-048E8B9B0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26EE6B8-5460-4DD7-BF2E-A3CCBF453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1B310-8346-44DF-B67E-A7C9D91C2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A9D91-EBF9-44BB-A9F9-DF73E1135C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3CD8F-53AF-4FFB-BBA8-CFBAE1DB2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3EDF3-25C7-48C7-A17B-39474D52212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image" Target="../media/image1.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a nervous wreck!</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 Monatgu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Capulet</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ount Pari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a:t>
            </a:r>
            <a:r>
              <a:rPr b="0" lang="en-US" sz="900" spc="-1" strike="noStrike">
                <a:solidFill>
                  <a:srgbClr val="000000"/>
                </a:solidFill>
                <a:latin typeface="Arial"/>
              </a:rPr>
              <a:t> The big day is almost here! I can’t wait to marry you =)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says rest in peace cousin Tybalt, I’ll miss you.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aris to Juliet </a:t>
            </a:r>
            <a:r>
              <a:rPr b="0" lang="en-US" sz="900" spc="-1" strike="noStrike">
                <a:solidFill>
                  <a:srgbClr val="000000"/>
                </a:solidFill>
                <a:latin typeface="Arial"/>
              </a:rPr>
              <a:t>When are you going to start taking your parent’s advice on marriage? I’m sure they know what’s best for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ybalt to Juliet </a:t>
            </a:r>
            <a:r>
              <a:rPr b="0" lang="en-US" sz="900" spc="-1" strike="noStrike">
                <a:solidFill>
                  <a:srgbClr val="000000"/>
                </a:solidFill>
                <a:latin typeface="Arial"/>
              </a:rPr>
              <a:t>Hey…I just wanted to tell you I really don’t want you hanging around Romeo too much…</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thinks it’s really dumb that people judge each other based on their last names!</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had a great time at our party…I have a good feeling about someone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524240" cy="304560"/>
        </p:xfrm>
        <a:graphic>
          <a:graphicData uri="http://schemas.openxmlformats.org/drawingml/2006/table">
            <a:tbl>
              <a:tblPr/>
              <a:tblGrid>
                <a:gridCol w="1524240"/>
              </a:tblGrid>
              <a:tr h="304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ive, Laugh, Love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2" descr=""/>
          <p:cNvPicPr/>
          <p:nvPr/>
        </p:nvPicPr>
        <p:blipFill>
          <a:blip r:embed="rId5"/>
          <a:stretch/>
        </p:blipFill>
        <p:spPr>
          <a:xfrm>
            <a:off x="152280" y="5562720"/>
            <a:ext cx="378000" cy="533160"/>
          </a:xfrm>
          <a:prstGeom prst="rect">
            <a:avLst/>
          </a:prstGeom>
          <a:ln w="0">
            <a:noFill/>
          </a:ln>
        </p:spPr>
      </p:pic>
      <p:pic>
        <p:nvPicPr>
          <p:cNvPr id="92" name="Picture 60" descr="http://images.fanpop.com/images/image_uploads/Jennifer-Love-Hewitt-jennifer-love-hewitt-118419_400_443.jpg"/>
          <p:cNvPicPr/>
          <p:nvPr/>
        </p:nvPicPr>
        <p:blipFill>
          <a:blip r:embed="rId6"/>
          <a:stretch/>
        </p:blipFill>
        <p:spPr>
          <a:xfrm>
            <a:off x="304920" y="533520"/>
            <a:ext cx="1085760" cy="1203120"/>
          </a:xfrm>
          <a:prstGeom prst="rect">
            <a:avLst/>
          </a:prstGeom>
          <a:ln w="0">
            <a:noFill/>
          </a:ln>
        </p:spPr>
      </p:pic>
      <p:pic>
        <p:nvPicPr>
          <p:cNvPr id="93" name="Picture 60" descr="http://images.fanpop.com/images/image_uploads/Jennifer-Love-Hewitt-jennifer-love-hewitt-118419_400_443.jpg"/>
          <p:cNvPicPr/>
          <p:nvPr/>
        </p:nvPicPr>
        <p:blipFill>
          <a:blip r:embed="rId7"/>
          <a:stretch/>
        </p:blipFill>
        <p:spPr>
          <a:xfrm>
            <a:off x="2133720" y="5791320"/>
            <a:ext cx="466560" cy="517320"/>
          </a:xfrm>
          <a:prstGeom prst="rect">
            <a:avLst/>
          </a:prstGeom>
          <a:ln w="0">
            <a:noFill/>
          </a:ln>
        </p:spPr>
      </p:pic>
      <p:pic>
        <p:nvPicPr>
          <p:cNvPr id="94" name="Picture 60" descr="http://images.fanpop.com/images/image_uploads/Jennifer-Love-Hewitt-jennifer-love-hewitt-118419_400_443.jpg"/>
          <p:cNvPicPr/>
          <p:nvPr/>
        </p:nvPicPr>
        <p:blipFill>
          <a:blip r:embed="rId8"/>
          <a:stretch/>
        </p:blipFill>
        <p:spPr>
          <a:xfrm>
            <a:off x="2133720" y="3124080"/>
            <a:ext cx="466560" cy="517680"/>
          </a:xfrm>
          <a:prstGeom prst="rect">
            <a:avLst/>
          </a:prstGeom>
          <a:ln w="0">
            <a:noFill/>
          </a:ln>
        </p:spPr>
      </p:pic>
      <p:pic>
        <p:nvPicPr>
          <p:cNvPr id="95" name="Picture 60" descr="http://images.fanpop.com/images/image_uploads/Jennifer-Love-Hewitt-jennifer-love-hewitt-118419_400_443.jpg"/>
          <p:cNvPicPr/>
          <p:nvPr/>
        </p:nvPicPr>
        <p:blipFill>
          <a:blip r:embed="rId9"/>
          <a:stretch/>
        </p:blipFill>
        <p:spPr>
          <a:xfrm>
            <a:off x="2133720" y="5105520"/>
            <a:ext cx="466560" cy="517320"/>
          </a:xfrm>
          <a:prstGeom prst="rect">
            <a:avLst/>
          </a:prstGeom>
          <a:ln w="0">
            <a:noFill/>
          </a:ln>
        </p:spPr>
      </p:pic>
      <p:pic>
        <p:nvPicPr>
          <p:cNvPr id="96" name="" descr=""/>
          <p:cNvPicPr/>
          <p:nvPr/>
        </p:nvPicPr>
        <p:blipFill>
          <a:blip r:embed="rId10"/>
          <a:srcRect l="9835" t="8746" r="24594" b="43172"/>
          <a:stretch/>
        </p:blipFill>
        <p:spPr>
          <a:xfrm>
            <a:off x="609480" y="5562720"/>
            <a:ext cx="484200" cy="533160"/>
          </a:xfrm>
          <a:prstGeom prst="rect">
            <a:avLst/>
          </a:prstGeom>
          <a:ln w="0">
            <a:noFill/>
          </a:ln>
        </p:spPr>
      </p:pic>
      <p:pic>
        <p:nvPicPr>
          <p:cNvPr id="97" name="" descr=""/>
          <p:cNvPicPr/>
          <p:nvPr/>
        </p:nvPicPr>
        <p:blipFill>
          <a:blip r:embed="rId11"/>
          <a:srcRect l="9835" t="8746" r="24594" b="43172"/>
          <a:stretch/>
        </p:blipFill>
        <p:spPr>
          <a:xfrm>
            <a:off x="2057400" y="4419720"/>
            <a:ext cx="484200" cy="533160"/>
          </a:xfrm>
          <a:prstGeom prst="rect">
            <a:avLst/>
          </a:prstGeom>
          <a:ln w="0">
            <a:noFill/>
          </a:ln>
        </p:spPr>
      </p:pic>
      <p:pic>
        <p:nvPicPr>
          <p:cNvPr id="98" name="" descr=""/>
          <p:cNvPicPr/>
          <p:nvPr/>
        </p:nvPicPr>
        <p:blipFill>
          <a:blip r:embed="rId12"/>
          <a:stretch/>
        </p:blipFill>
        <p:spPr>
          <a:xfrm>
            <a:off x="1219320" y="5543640"/>
            <a:ext cx="533160" cy="533160"/>
          </a:xfrm>
          <a:prstGeom prst="rect">
            <a:avLst/>
          </a:prstGeom>
          <a:ln w="0">
            <a:noFill/>
          </a:ln>
        </p:spPr>
      </p:pic>
      <p:pic>
        <p:nvPicPr>
          <p:cNvPr id="99" name="" descr=""/>
          <p:cNvPicPr/>
          <p:nvPr/>
        </p:nvPicPr>
        <p:blipFill>
          <a:blip r:embed="rId13"/>
          <a:stretch/>
        </p:blipFill>
        <p:spPr>
          <a:xfrm>
            <a:off x="2133720" y="2514600"/>
            <a:ext cx="457200" cy="457200"/>
          </a:xfrm>
          <a:prstGeom prst="rect">
            <a:avLst/>
          </a:prstGeom>
          <a:ln w="0">
            <a:noFill/>
          </a:ln>
        </p:spPr>
      </p:pic>
      <p:pic>
        <p:nvPicPr>
          <p:cNvPr id="100" name="" descr=""/>
          <p:cNvPicPr/>
          <p:nvPr/>
        </p:nvPicPr>
        <p:blipFill>
          <a:blip r:embed="rId14"/>
          <a:stretch/>
        </p:blipFill>
        <p:spPr>
          <a:xfrm>
            <a:off x="2133720" y="3809880"/>
            <a:ext cx="457200" cy="457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is a nervous wreck!</a:t>
            </a:r>
            <a:endParaRPr b="0" lang="en-US" sz="9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Catholic</a:t>
            </a:r>
            <a:endParaRPr b="0" lang="en-US" sz="800" spc="-1" strike="noStrike">
              <a:solidFill>
                <a:srgbClr val="ffffff"/>
              </a:solidFill>
              <a:latin typeface="Arial"/>
            </a:endParaRPr>
          </a:p>
        </p:txBody>
      </p:sp>
      <p:sp>
        <p:nvSpPr>
          <p:cNvPr id="132" name="Text Box 33"/>
          <p:cNvSpPr/>
          <p:nvPr/>
        </p:nvSpPr>
        <p:spPr>
          <a:xfrm>
            <a:off x="2133720" y="3200400"/>
            <a:ext cx="4495680" cy="1505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ading, Going on long walks, being with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Going to parties, watching my favorite shows, no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being bothered by parent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Jason Mraz, Michael Buble, Taylor Swif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Notebook, Dear John,  Twiligh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The Bachelor,  Gossip Girl,  Secret Life of the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959ebd"/>
                </a:solidFill>
                <a:latin typeface="Arial"/>
              </a:rPr>
              <a:t>American Teenag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he Last Song, Gone With The Wind, Pride and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Prejudice </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amil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1 week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263520"/>
        </p:xfrm>
        <a:graphic>
          <a:graphicData uri="http://schemas.openxmlformats.org/drawingml/2006/table">
            <a:tbl>
              <a:tblPr/>
              <a:tblGrid>
                <a:gridCol w="1525320"/>
              </a:tblGrid>
              <a:tr h="2635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ive, Laugh, Love &lt;3</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0" descr="http://images.fanpop.com/images/image_uploads/Jennifer-Love-Hewitt-jennifer-love-hewitt-118419_400_443.jpg"/>
          <p:cNvPicPr/>
          <p:nvPr/>
        </p:nvPicPr>
        <p:blipFill>
          <a:blip r:embed="rId7"/>
          <a:stretch/>
        </p:blipFill>
        <p:spPr>
          <a:xfrm>
            <a:off x="304920" y="533520"/>
            <a:ext cx="1085760" cy="1203120"/>
          </a:xfrm>
          <a:prstGeom prst="rect">
            <a:avLst/>
          </a:prstGeom>
          <a:ln w="0">
            <a:noFill/>
          </a:ln>
        </p:spPr>
      </p:pic>
      <p:pic>
        <p:nvPicPr>
          <p:cNvPr id="141" name="" descr=""/>
          <p:cNvPicPr/>
          <p:nvPr/>
        </p:nvPicPr>
        <p:blipFill>
          <a:blip r:embed="rId8"/>
          <a:stretch/>
        </p:blipFill>
        <p:spPr>
          <a:xfrm>
            <a:off x="152280" y="5334120"/>
            <a:ext cx="685800" cy="514080"/>
          </a:xfrm>
          <a:prstGeom prst="rect">
            <a:avLst/>
          </a:prstGeom>
          <a:ln w="0">
            <a:noFill/>
          </a:ln>
        </p:spPr>
      </p:pic>
      <p:pic>
        <p:nvPicPr>
          <p:cNvPr id="142" name="" descr=""/>
          <p:cNvPicPr/>
          <p:nvPr/>
        </p:nvPicPr>
        <p:blipFill>
          <a:blip r:embed="rId9"/>
          <a:stretch/>
        </p:blipFill>
        <p:spPr>
          <a:xfrm>
            <a:off x="152280" y="6039000"/>
            <a:ext cx="6858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073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Hey what’s up!</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Not much….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Uhmm no actually I think there is something up with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hoa whoa whoa, what do u mea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I really don’t want u hangin out with Romeo. I can’t stand that guy</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But he is so romantic and he loves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No he doesn’t. he probly just wants u cuz ur beautifu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Whatever. He seems like he actually cares about who I am so I believe him.</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well if u don’t wanna take my advice, it’s cool. I’ll take care of that for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Omg no! Don’t you dare touch my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 What are you going to do about he? There’s no way he can take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You wouldn’t do such a thing…</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Hello? U ther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57" name="Text Box 16"/>
          <p:cNvSpPr/>
          <p:nvPr/>
        </p:nvSpPr>
        <p:spPr>
          <a:xfrm>
            <a:off x="609480" y="4724280"/>
            <a:ext cx="6324840" cy="1392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Blog on Why Names Don’t Matter!</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Ughhh….I think the stupidest thing in the world is people judging each other based on their last name. I mean really? Why should a person’s identity even matter in a relationship?!?! If you were related or something I understand that that is just wrong, but if a family just holds a grudge against someone because of their name, it’s plain dumb. Just because they believe that, they think they’re holding me back from someone who could possibly be a very successful relationship for me. I truly like this person but I’m told I’m not allowed to be with him. Oh, and of course mom and dad always think they know what’s best for me and what makes me really happy!! Well, they obviously don’t! Just forget about the stupid last name and look at a person for who they are on the inside. If someone’s family aren’t people you particularly like, that doesn’t mean that their children will be just the same as them! I really need some help here…</a:t>
            </a:r>
            <a:endParaRPr b="0" lang="en-US" sz="9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is a nervous wreck!</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8958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16002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images.fanpop.com/images/image_uploads/Jennifer-Love-Hewitt-jennifer-love-hewitt-118419_400_443.jpg"/>
          <p:cNvPicPr/>
          <p:nvPr/>
        </p:nvPicPr>
        <p:blipFill>
          <a:blip r:embed="rId5"/>
          <a:stretch/>
        </p:blipFill>
        <p:spPr>
          <a:xfrm>
            <a:off x="152280" y="533520"/>
            <a:ext cx="609840" cy="674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s the hold up?</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iet…I really need to hear from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Beautifu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how are you?</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and his cousi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guys are no good…</a:t>
            </a:r>
            <a:endParaRPr b="0" lang="en-US" sz="1200" spc="-1" strike="noStrike">
              <a:solidFill>
                <a:srgbClr val="ffffff"/>
              </a:solidFill>
              <a:latin typeface="Arial"/>
            </a:endParaRPr>
          </a:p>
        </p:txBody>
      </p:sp>
      <p:pic>
        <p:nvPicPr>
          <p:cNvPr id="181" name="Picture 60" descr="http://images.fanpop.com/images/image_uploads/Jennifer-Love-Hewitt-jennifer-love-hewitt-118419_400_443.jpg"/>
          <p:cNvPicPr/>
          <p:nvPr/>
        </p:nvPicPr>
        <p:blipFill>
          <a:blip r:embed="rId5"/>
          <a:stretch/>
        </p:blipFill>
        <p:spPr>
          <a:xfrm>
            <a:off x="152280" y="609480"/>
            <a:ext cx="762120" cy="844560"/>
          </a:xfrm>
          <a:prstGeom prst="rect">
            <a:avLst/>
          </a:prstGeom>
          <a:ln w="0">
            <a:noFill/>
          </a:ln>
        </p:spPr>
      </p:pic>
      <p:pic>
        <p:nvPicPr>
          <p:cNvPr id="182" name="" descr=""/>
          <p:cNvPicPr/>
          <p:nvPr/>
        </p:nvPicPr>
        <p:blipFill>
          <a:blip r:embed="rId6"/>
          <a:srcRect l="9835" t="8746" r="24594" b="43172"/>
          <a:stretch/>
        </p:blipFill>
        <p:spPr>
          <a:xfrm>
            <a:off x="304920" y="5181480"/>
            <a:ext cx="1038240" cy="1143000"/>
          </a:xfrm>
          <a:prstGeom prst="rect">
            <a:avLst/>
          </a:prstGeom>
          <a:ln w="0">
            <a:noFill/>
          </a:ln>
        </p:spPr>
      </p:pic>
      <p:pic>
        <p:nvPicPr>
          <p:cNvPr id="183" name="" descr=""/>
          <p:cNvPicPr/>
          <p:nvPr/>
        </p:nvPicPr>
        <p:blipFill>
          <a:blip r:embed="rId7"/>
          <a:stretch/>
        </p:blipFill>
        <p:spPr>
          <a:xfrm>
            <a:off x="228600" y="2057400"/>
            <a:ext cx="1066680" cy="1066680"/>
          </a:xfrm>
          <a:prstGeom prst="rect">
            <a:avLst/>
          </a:prstGeom>
          <a:ln w="0">
            <a:noFill/>
          </a:ln>
        </p:spPr>
      </p:pic>
      <p:pic>
        <p:nvPicPr>
          <p:cNvPr id="184" name="Picture 62" descr=""/>
          <p:cNvPicPr/>
          <p:nvPr/>
        </p:nvPicPr>
        <p:blipFill>
          <a:blip r:embed="rId8"/>
          <a:stretch/>
        </p:blipFill>
        <p:spPr>
          <a:xfrm>
            <a:off x="304920" y="3429000"/>
            <a:ext cx="91728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1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at’s the hold up?</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uliet…I really need to hear from you. All I can think about every second of the day is you and how I constantly want to be with you. I’m telling you right now that I am really hoping that you want to marry me and spend the rest of your life with me. Just think about it…we would have our own house and children, we would be a newly wed happy couple. Oh yeah, and don’t forget you’re not getting any younger! You should think about this for a little while and let me know when you make up your mind. Like your parents said, we would be just the perfect couple for each other and you know it would make your parents so proud if you marry me. Plus I am definitely looking forward to the future of us being together! I really hope you make the smart choice and decide to be with me and get married! Just make sure you make up your mind soon because we need to figure out a day. Quickly.</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p:txBody>
      </p:sp>
      <p:pic>
        <p:nvPicPr>
          <p:cNvPr id="199" name="Picture 60" descr="http://images.fanpop.com/images/image_uploads/Jennifer-Love-Hewitt-jennifer-love-hewitt-118419_400_443.jpg"/>
          <p:cNvPicPr/>
          <p:nvPr/>
        </p:nvPicPr>
        <p:blipFill>
          <a:blip r:embed="rId5"/>
          <a:stretch/>
        </p:blipFill>
        <p:spPr>
          <a:xfrm>
            <a:off x="152280" y="533520"/>
            <a:ext cx="762120" cy="844560"/>
          </a:xfrm>
          <a:prstGeom prst="rect">
            <a:avLst/>
          </a:prstGeom>
          <a:ln w="0">
            <a:noFill/>
          </a:ln>
        </p:spPr>
      </p:pic>
      <p:pic>
        <p:nvPicPr>
          <p:cNvPr id="200" name="" descr=""/>
          <p:cNvPicPr/>
          <p:nvPr/>
        </p:nvPicPr>
        <p:blipFill>
          <a:blip r:embed="rId6"/>
          <a:stretch/>
        </p:blipFill>
        <p:spPr>
          <a:xfrm>
            <a:off x="228600" y="2057400"/>
            <a:ext cx="106668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828800"/>
            <a:ext cx="640080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Beautifu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Hey Juliet…how are you? I hope everything’s going good for you today! I just wanted to let you know how I am so glad that I met you. You are so beautiful and I love being around you so much, Juliet! As soon as I laid my eyes on you at the party my mind couldn’t stop thinking about you and how fortunate I am to have met you! I was just wondering if you would want to like hang out sometime soon. You seem like you’re pretty fun to be around so far and can’t wait to see you again! I know how everyone feels about the Montagues and the Capulets, but that shouldn’t matter between us babe. Who knows how this could turn out once we really get to know each other, but I have a good feeling about us. I guess we can just keep talking and see what happens! Nobody needs to know about this. It can be our little secret ;)</a:t>
            </a:r>
            <a:endParaRPr b="0" lang="en-US" sz="1000" spc="-1" strike="noStrike">
              <a:solidFill>
                <a:srgbClr val="ffffff"/>
              </a:solidFill>
              <a:latin typeface="Arial"/>
            </a:endParaRPr>
          </a:p>
        </p:txBody>
      </p:sp>
      <p:sp>
        <p:nvSpPr>
          <p:cNvPr id="215" name="TextBox 26"/>
          <p:cNvSpPr/>
          <p:nvPr/>
        </p:nvSpPr>
        <p:spPr>
          <a:xfrm>
            <a:off x="1676520" y="3886200"/>
            <a:ext cx="6400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Beautifu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Hey there =) I was hoping to hear from you once you confirmed my friend request on here! It’s sooo good to hear from you, Romeo! I have to say though, in the very beginning when we met I was a little weary, but I have you say you’re a pretty good guy…and you’re kind of cute too ;) I totally agree with you, we should definitely get together sometime soon. Maybe we could watch a movie, or go to a romantic dinner? Whatever you want! You’ve been on my mind a lot too, and I think that’s a good thing. However, before we start to do anything more serious we really need to talk more and see who each of us really are. I believe in a man’s idea of values and that he cares for his partner. So, I hope that you will prove to me that you can be that type of guy. Oh by the way, I’m not too worried about our names going between us. That is so stupid I can hardly stand it! Just text me sometime and let me know what you want to do =)</a:t>
            </a:r>
            <a:endParaRPr b="0" lang="en-US" sz="1000" spc="-1" strike="noStrike">
              <a:solidFill>
                <a:srgbClr val="ffffff"/>
              </a:solidFill>
              <a:latin typeface="Arial"/>
            </a:endParaRPr>
          </a:p>
        </p:txBody>
      </p:sp>
      <p:pic>
        <p:nvPicPr>
          <p:cNvPr id="216" name="Picture 60" descr="http://images.fanpop.com/images/image_uploads/Jennifer-Love-Hewitt-jennifer-love-hewitt-118419_400_443.jpg"/>
          <p:cNvPicPr/>
          <p:nvPr/>
        </p:nvPicPr>
        <p:blipFill>
          <a:blip r:embed="rId5"/>
          <a:stretch/>
        </p:blipFill>
        <p:spPr>
          <a:xfrm>
            <a:off x="152280" y="533520"/>
            <a:ext cx="838440" cy="928440"/>
          </a:xfrm>
          <a:prstGeom prst="rect">
            <a:avLst/>
          </a:prstGeom>
          <a:ln w="0">
            <a:noFill/>
          </a:ln>
        </p:spPr>
      </p:pic>
      <p:pic>
        <p:nvPicPr>
          <p:cNvPr id="217" name="Picture 62" descr=""/>
          <p:cNvPicPr/>
          <p:nvPr/>
        </p:nvPicPr>
        <p:blipFill>
          <a:blip r:embed="rId6"/>
          <a:stretch/>
        </p:blipFill>
        <p:spPr>
          <a:xfrm>
            <a:off x="380880" y="1981080"/>
            <a:ext cx="1025640" cy="1447920"/>
          </a:xfrm>
          <a:prstGeom prst="rect">
            <a:avLst/>
          </a:prstGeom>
          <a:ln w="0">
            <a:noFill/>
          </a:ln>
        </p:spPr>
      </p:pic>
      <p:pic>
        <p:nvPicPr>
          <p:cNvPr id="218" name="Picture 60" descr="http://images.fanpop.com/images/image_uploads/Jennifer-Love-Hewitt-jennifer-love-hewitt-118419_400_443.jpg"/>
          <p:cNvPicPr/>
          <p:nvPr/>
        </p:nvPicPr>
        <p:blipFill>
          <a:blip r:embed="rId7"/>
          <a:stretch/>
        </p:blipFill>
        <p:spPr>
          <a:xfrm>
            <a:off x="152280" y="4191120"/>
            <a:ext cx="1306800" cy="144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meo &amp; His Cousi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These guys are no good Juliet, I’m telling you! I cannot believe that he crashed your party! I wanted to beat him up so bad right then and there. I don’t know who this Romeo guy thinks he is, especially since he’s a Montague. He really shouldn’t be messing with us Capulets. So just stay away from him and I’ll protect you because I don’t want you getting hurt. Hopefully he didn’t say too much to you and hopefully he’ll leave you alone and not talk to you either. I just have a bad feeling about him. Oh, and don’t forget about his cousin either. If I have to I’ll take them both down! I was just wanting to let you know about all this…so be careful with what you do and who you talk to! He wasn’t even coming to the party to see you either. He just happened to lay his eyes upon you instead of Rosaline; he could just be playing you.</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ffffff"/>
              </a:solidFill>
              <a:latin typeface="Arial"/>
            </a:endParaRPr>
          </a:p>
        </p:txBody>
      </p:sp>
      <p:pic>
        <p:nvPicPr>
          <p:cNvPr id="233" name="Picture 60" descr="http://images.fanpop.com/images/image_uploads/Jennifer-Love-Hewitt-jennifer-love-hewitt-118419_400_443.jpg"/>
          <p:cNvPicPr/>
          <p:nvPr/>
        </p:nvPicPr>
        <p:blipFill>
          <a:blip r:embed="rId2"/>
          <a:stretch/>
        </p:blipFill>
        <p:spPr>
          <a:xfrm>
            <a:off x="152280" y="533520"/>
            <a:ext cx="838440" cy="928440"/>
          </a:xfrm>
          <a:prstGeom prst="rect">
            <a:avLst/>
          </a:prstGeom>
          <a:ln w="0">
            <a:noFill/>
          </a:ln>
        </p:spPr>
      </p:pic>
      <p:pic>
        <p:nvPicPr>
          <p:cNvPr id="234" name="" descr=""/>
          <p:cNvPicPr/>
          <p:nvPr/>
        </p:nvPicPr>
        <p:blipFill>
          <a:blip r:embed="rId3"/>
          <a:srcRect l="9835" t="8746" r="24594" b="43172"/>
          <a:stretch/>
        </p:blipFill>
        <p:spPr>
          <a:xfrm>
            <a:off x="457200" y="2133720"/>
            <a:ext cx="103824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30</cp:lastModifiedBy>
  <dcterms:modified xsi:type="dcterms:W3CDTF">2010-05-07T20:22:21Z</dcterms:modified>
  <cp:revision>60</cp:revision>
  <dc:subject/>
  <dc:title>Profile</dc:title>
</cp:coreProperties>
</file>